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C1F3-BCEA-4E10-8320-F4A861740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4252-749A-4424-934F-7D8C3BD7A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CBC3-DC38-41AA-ABDF-CE7F1B558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D9CB-3725-459A-ACE6-B41468D39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87A8-C36F-4EC3-AC0F-A75C39A6E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FEFB-ED1C-4487-9C00-FAE826BF4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BC2A-66FC-44E8-B9A5-44DE8CEF9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3A64-546E-463E-B940-D2F5C8B30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0D30-FBAC-4BE8-BA8D-0D9B5F9A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4E6C-13FB-48BF-BA80-30D426A13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492F-7C27-4D6F-8EA1-85B2E085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512-4B65-4186-9E75-FBE05D9D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EDB-2430-4E4F-B53A-52E8D598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BBA-4BAF-4F5F-98E7-6FAD1C6D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B6C-C74F-4F33-9AA1-51774A23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2FD-E52C-4DE2-B0FD-46D3CA14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1BD-9F4E-4085-A989-118F838D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3F0-587F-4B62-9719-D50FAA09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645-C4AD-4393-8EDE-F7090594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5D8-BED0-49A6-AC2E-081DC504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344-A934-4E5C-8057-46FAE9B6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6FE-717F-42B2-A312-B5F0DFB6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A9C5-FBD6-4BEA-BC70-29E27B73B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http://www.cnn.com/WORLD/9708/25/berlin.wall.deaths/germany.map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410080" y="121932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What is the message of this cart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57200" y="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m:  What was the plan for containment against communism?                                    L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"/>
          <p:cNvPicPr/>
          <p:nvPr/>
        </p:nvPicPr>
        <p:blipFill>
          <a:blip r:embed="rId2"/>
          <a:stretch/>
        </p:blipFill>
        <p:spPr>
          <a:xfrm>
            <a:off x="0" y="965160"/>
            <a:ext cx="539748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99880" y="1720800"/>
          <a:ext cx="8844120" cy="5137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9880" y="1720800"/>
                    <a:ext cx="884412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2"/>
          <p:cNvSpPr/>
          <p:nvPr/>
        </p:nvSpPr>
        <p:spPr>
          <a:xfrm>
            <a:off x="685800" y="4572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Perspectives of the Cold War Evidence Ac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85800" y="1219320"/>
            <a:ext cx="8221680" cy="20746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irections:  As we go through this unit complete 5 perspective charts comparing the views of the Communists and the Capitalists on various Cold War events.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ominos"/>
          <p:cNvPicPr/>
          <p:nvPr/>
        </p:nvPicPr>
        <p:blipFill>
          <a:blip r:embed="rId2">
            <a:lum bright="54000"/>
          </a:blip>
          <a:stretch/>
        </p:blipFill>
        <p:spPr>
          <a:xfrm>
            <a:off x="2195640" y="0"/>
            <a:ext cx="4394160" cy="6777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The Domino Eff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The USSR had a lot of influence over many of the new communist countries (especially those in Europ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The USA did not want communism to spread any further – they were worried about the domino effect (one country becomes communist, then another, then another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the S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saw 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 to unify members under the control of the USSR and protect from capitalist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USSR and its satell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O - North Atlantic Treaty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 to unify members and deter Soviet invasion of Europ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Non- communist countries, led by U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14640" y="380520"/>
            <a:ext cx="29718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= NA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= Warsaw P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 = Neut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568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Containment and The Truman Doctr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90560" y="15998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USA hoped to contain communism and not allow it to spread.</a:t>
            </a:r>
            <a:r>
              <a:rPr b="0" lang="en-US" sz="3600" spc="-1" strike="noStrike">
                <a:solidFill>
                  <a:srgbClr val="333399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Truman Doctrin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in March 1947 promised that the USA would support countries who wanted to resist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24734"/>
          <p:cNvPicPr/>
          <p:nvPr/>
        </p:nvPicPr>
        <p:blipFill>
          <a:blip r:embed="rId2"/>
          <a:stretch/>
        </p:blipFill>
        <p:spPr>
          <a:xfrm>
            <a:off x="0" y="2209680"/>
            <a:ext cx="2657520" cy="3332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estions for analyzing the Truman Doctrine</a:t>
            </a:r>
            <a:br>
              <a:rPr sz="31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two alternative ways of life in section 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and B describing? How do you k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wo of Truman’s beliefs in your own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topic of section 4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section 5 how does totalitarianism grow?  Do you think this is correct?  Give a historical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6 say the USA needs to do and 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334120" y="3349800"/>
            <a:ext cx="3809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In June of 1948, the French, British and American zones were joined into the nation of West Germany after the Soviets refused to end their occupation of Germ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334120" y="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viet blockade 1948- 194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Deutschland_Besatzungszonen_1945_1946"/>
          <p:cNvPicPr/>
          <p:nvPr/>
        </p:nvPicPr>
        <p:blipFill>
          <a:blip r:embed="rId2"/>
          <a:stretch/>
        </p:blipFill>
        <p:spPr>
          <a:xfrm>
            <a:off x="0" y="0"/>
            <a:ext cx="5311800" cy="6862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5302080" cy="6850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609480" y="29718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st Germ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048120" y="289548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st Germ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477120" y="27432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st 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172200" y="838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t 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H="1" flipV="1">
            <a:off x="4114800" y="2438280"/>
            <a:ext cx="2362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H="1">
            <a:off x="4267080" y="1219320"/>
            <a:ext cx="1905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358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In response, the Soviets cut off West Berlin from the rest of the world with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lockad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y building the Berlin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arte03gb"/>
          <p:cNvPicPr/>
          <p:nvPr/>
        </p:nvPicPr>
        <p:blipFill>
          <a:blip r:embed="rId2"/>
          <a:srcRect l="7252" t="0" r="4822" b="0"/>
          <a:stretch/>
        </p:blipFill>
        <p:spPr>
          <a:xfrm>
            <a:off x="3581280" y="0"/>
            <a:ext cx="5562720" cy="5484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german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24080"/>
            <a:ext cx="3514680" cy="3733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581280" y="6338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ventual site of the Berlin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 flipV="1">
            <a:off x="7924680" y="54864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495680" y="0"/>
            <a:ext cx="464832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erican and British troops air lifted supplies to Berlin to avoid the blockade for nearly 11 month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oviets gave in but the Berlin Wall remained up until 1989 and Berlin remained divid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b_mur7"/>
          <p:cNvPicPr/>
          <p:nvPr/>
        </p:nvPicPr>
        <p:blipFill>
          <a:blip r:embed="rId2"/>
          <a:stretch/>
        </p:blipFill>
        <p:spPr>
          <a:xfrm>
            <a:off x="380880" y="1371600"/>
            <a:ext cx="38862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1:26:31Z</dcterms:created>
  <dc:creator>Adam Berlin</dc:creator>
  <dc:description/>
  <dc:language>en-US</dc:language>
  <cp:lastModifiedBy>NYCDOE</cp:lastModifiedBy>
  <dcterms:modified xsi:type="dcterms:W3CDTF">2012-04-04T11:42:39Z</dcterms:modified>
  <cp:revision>68</cp:revision>
  <dc:subject/>
  <dc:title>Slide 1</dc:title>
</cp:coreProperties>
</file>